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4.wmf" ContentType="image/x-wmf"/>
  <Override PartName="/ppt/media/image27.jpeg" ContentType="image/jpeg"/>
  <Override PartName="/ppt/media/applause.wav" ContentType="audio/x-wav"/>
  <Override PartName="/ppt/media/image21.jpeg" ContentType="image/jpeg"/>
  <Override PartName="/ppt/media/chimes.wav" ContentType="audio/x-wav"/>
  <Override PartName="/ppt/media/image19.jpeg" ContentType="image/jpeg"/>
  <Override PartName="/ppt/media/image14.wmf" ContentType="image/x-wmf"/>
  <Override PartName="/ppt/media/image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7.jpeg" ContentType="image/jpeg"/>
  <Override PartName="/ppt/media/image31.wmf" ContentType="image/x-wmf"/>
  <Override PartName="/ppt/media/image7.jpeg" ContentType="image/jpeg"/>
  <Override PartName="/ppt/media/image12.jpeg" ContentType="image/jpeg"/>
  <Override PartName="/ppt/media/image13.png" ContentType="image/png"/>
  <Override PartName="/ppt/media/camera.wav" ContentType="audio/x-wav"/>
  <Override PartName="/ppt/media/image9.jpeg" ContentType="image/jpeg"/>
  <Override PartName="/ppt/media/image30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3.jpeg" ContentType="image/jpeg"/>
  <Override PartName="/ppt/media/image28.wmf" ContentType="image/x-wmf"/>
  <Override PartName="/ppt/media/image1.png" ContentType="image/png"/>
  <Override PartName="/ppt/media/image15.wmf" ContentType="image/x-wmf"/>
  <Override PartName="/ppt/media/image22.jpeg" ContentType="image/jpeg"/>
  <Override PartName="/ppt/media/image16.wmf" ContentType="image/x-wmf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90D8-A15C-4AB7-A0D3-5312E0309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4B0D-FAAB-4578-A5D0-58EFC3289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E60-97FA-4007-A207-9178A96E9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91F-2062-4AFD-8F03-7540883A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DCEAA-BC5C-4350-8F80-50A4F171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F4FAF-C5F6-4292-9781-796C2C67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8BBF8-E68C-4E8F-92BA-801DE248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8F4863-DCEB-4223-8E23-17DB4E1C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7FF24-BA8A-4854-AD54-C96847E4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E809F-A87F-4A86-92E3-41781543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AA098-EBD9-4D90-91B3-91A56986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9D182-30DC-451E-BA63-94A2B06D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4CE9C-9301-49E4-8E74-D1F5B298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718AF-0122-4408-88E8-0EC60825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C5B4-7B72-4626-AF95-1BBEF63F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51060-7CE6-4A50-AF71-E56494B8B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D23D0-24DA-4A45-8A8D-218456B4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F4CA4-292B-44A0-8DE3-128ADB46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D7F83-70F3-4691-99D8-82C86771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67BD2-DC55-41F7-B14A-CE023AE1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C9277-7164-4E59-8EB7-67134059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71944-0791-47B9-B1F7-8C753013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961ACD-3E00-4223-BC23-D9F52CFB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561DE-FCC4-4AF7-A8F4-95895253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3623F-8C4A-4E0C-AC9F-51F76898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922E-919D-453A-BB42-7D84DA6C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C5448-A19C-4C97-8786-9CFA14F9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6AF8C-401A-46EF-97A0-40423B69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484B6-D98A-4497-92F4-E74C9D9A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B428D-DD4A-440A-9262-190F2CA9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7ACAA-4B5E-4049-835C-B0493D90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23A23-039C-44D3-8D5D-C2252854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55E38-A86B-422C-832F-2F53B7B2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836E9-2E53-44A3-8AB4-37AC5993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D0EF5-751E-4A0F-9498-06E1C06F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C3EAB-81A3-429E-9494-BC3A147B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B0BA-2D87-4112-AAF6-4ECCB7ABD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95CD4-E48E-4B3F-9879-9978835B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0C3F9-2F8C-45DF-B4EB-F71F57E7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400B09-B47A-4FD8-99CB-BFDD6E3A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21C9E-C95F-4FF9-9EEF-B32BA0289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5BDD4-5D36-48CE-92BE-CD603C83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EF5DC-9EF3-449F-9774-4B33855D2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AEBD7-DB80-425A-B798-0358C2D5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C9D22-7E9E-497B-8374-6A9FE5E2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670690-8E88-4CBB-9ED7-BAE45858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C53EE-064F-48A5-95C8-5B47F1CC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F78F-553F-4F88-92C0-DC02AA2A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D4D14-43F4-4F42-9CB5-6C034F8C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A9CED-8AC7-4F51-9749-9484B360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A968A-2804-4270-A069-2E91E5D2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1AF490-6679-44CB-A898-BC7E8598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13443-639E-4267-BBF6-6930D5F48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A0015-E30F-448C-989D-671B7ADD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CC755-3999-42C3-A440-D80C5521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5F87A-0CFC-4D9D-9E97-FE1C5297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E7D357-F822-46A7-9EDD-EE93F160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8D4DB8-0CA5-4131-9482-48429E24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A286-DC6C-4154-ACB6-23909211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8363F6-0E6D-41C9-A34B-D448039D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C606D-E31B-48CB-9637-3B3797F6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15163-8AA8-4204-BE27-02253E20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34C075-0B76-4A9C-A012-181B5324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86114-4413-4800-BF1C-E5452A7C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C80514-B3F9-4242-8562-7F649987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1751D-9090-4939-8B2D-76C04100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CAA9-C5AC-4069-930D-48E95F7D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B5AC-2CF0-49CF-B3D1-5947CDF5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3895-47F5-4072-ACC6-19E7FDF3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CAEDC-9BE3-4832-BF13-772A9536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02F-0242-4F9A-893E-04BAFBE9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19F31-9C6F-4B44-87DC-64F17771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5231-70A3-4EAD-B43C-29556D88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F10B-C06C-47D8-B5C7-407FF2A3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E138-DFD6-4D9F-B801-224A0C896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E1BA5-87C8-4F6C-B232-B8E7A4E2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398E1-E6C0-4FD0-A1DF-4489C3A7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7F0D9-99F2-4691-B4FB-D6784AC3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CA43D-EE55-413F-9E04-94D177A2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E0771-1479-4B98-802C-996C8866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FCCA3-5A97-4392-9276-720DD978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C95A-5AD7-494C-B1B7-D3CDBC15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4F797-F930-4B9B-965F-2F78305C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81FB0-8F66-474D-AD77-7DBAC2ED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87867-FB4D-43C9-BBDF-C610D9DD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37415-A80E-4DA9-91FC-ED12307E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916A5-55AF-4DAF-8808-4A4821DB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EF450-8E6F-46E1-8EDE-A0150B0B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ABF7D-5859-48F5-BC31-45C1FE1C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218EA-86B0-4000-8F40-57C3E2D3E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B6441-0836-4D33-A920-DB1E2AF7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0A01C-0944-43B4-8B4A-6C6194F6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9C8-864E-4034-9414-0D5C8F55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2910D-B85A-48BF-AA70-3B366024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B73ED-FBDB-4E0C-82A1-428661E8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01ACD-C93C-467A-8F2F-D39301FF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1D588-773A-47E7-8645-D8569597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B39BD-702F-4F23-9DDF-E3F73018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8524A-CC44-467D-A2F7-599C675C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545FC-B268-4078-880B-FBFB2563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5AFE6-199D-4294-8F8C-DDFF88E04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DC8CA-32E8-47E8-B875-3967818F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2CE06-2205-4566-B3DA-C1CF3512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1D82-A9E8-41B3-A796-1378B9FF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310B6-32FE-478C-AB7C-BE7531C3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783EE-3CCA-49EB-834F-27D3B9AA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EBB8F-0D68-41B9-871E-061175CA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B5EB2-9AE5-4495-B6D3-432A1FB3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E5ABB-3CAC-46E7-A3F6-046D0AE7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D02B7-D165-46BA-9881-8E4F196C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35AEA-0397-40BF-9E3B-36C28DE5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1F652-BDAB-419A-95E3-244AE443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D1371-0737-4CD1-8146-C79CEA31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45D41-C61D-4710-A725-ADD51BD8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884A-314F-423B-8981-92E03D31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9552E-569F-4C97-BC4C-958B3D99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8CEC5-8B3C-4A3F-A8A4-9C1E2643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A4BCF-8837-43ED-A8E6-E80DEDD2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DCD6D-1450-4CFA-A903-ADDB8629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0DD0A-F915-45F0-AB43-D4BC7250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78DC4-09AD-461D-9404-0A35BCD8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DAFA9-B617-49CF-AFCE-012129F6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EA4A3-63B5-407A-A916-42905C9A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B5131-793B-4F12-BAC9-2BD8A8ED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1D215-78C7-40D0-963E-C6885E11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B121-C273-4395-A2B4-0E308519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1C1B0-6092-470B-992B-564FFD97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931BC-B757-4AA8-BF11-6EE3534A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87A5C-95CF-4B4A-9E3B-3B720F2C0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914C5-8524-4033-AAD4-DFED8C9B8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4543F-FB37-49DF-BD64-ED0DF6AD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351B1-A835-497A-A866-B81130F6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40A90-C513-47A2-AD18-A9A58A1E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F7BD8-A305-4A49-9358-4C528DE6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833A5-8F33-480D-B585-93AED0C4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5E30E-8D48-4DF6-BD59-3747BEAE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DBBD-6E64-415B-BB09-F2E91F09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552C1-3D57-4554-ACBC-8E07B043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41A1B-A57A-4836-AC7D-1D6DE692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D01ED-2476-4A8A-B2CE-9F7819FA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04127-F50C-4D38-A4A8-B289C096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13678-9006-4B07-88BA-AB8D868D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8C096-8882-4968-9A2A-E87992F5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25537-DDDA-488A-8638-D876019B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02293-C147-4CDF-A957-26115D52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1C1E1-E2C2-4FF2-8CA5-A3DA25F0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03D41-C8E9-4E43-AA8A-38775B4F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2DE-C2E3-499A-B98E-AACE5401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D52F9-E886-4C90-A567-4C9F6309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C8141-329A-4419-A8D2-C4294402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216B3-29A1-462E-946B-4C4F2469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3EB5A-6A9B-4224-9E59-B6AD14AF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FC076-8B72-4178-ADE4-CFA0C8BF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34A0A-E847-4DAC-A957-E8B93922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6905A-E87E-4839-BDC1-B01E179F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AC6BB-E546-460A-B0A4-4A466D7A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B386B-3A6F-40C1-B221-2A8607DF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CDFB7-C61A-4DEE-8116-0D9D6B2D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7D99-9FE3-4F89-BC69-9D5A4A523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A1A0-5F74-4F08-B1D4-96C524CE4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5817-6A94-4E8F-9F50-92AB75488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E542-2FCD-4473-B820-B8A9E7689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2317-931D-46D0-B859-4DDC63A78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D3D9-01AE-4040-BD4F-80127A4EC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8EC1-1E49-4C11-A20F-8C675E2F4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D512-9A71-4444-9E10-39B13CF85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4DC26-2C93-4026-9959-C47F1B78C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9E66-4895-413F-8C2B-CD87B94BB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1B65-3406-43F8-B300-8E467C43E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A743-E8A7-421D-A7A9-63DAB8633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8E3E-50AE-4218-BCFC-8FA0A9E75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9.xml"/><Relationship Id="rId3" Type="http://schemas.openxmlformats.org/officeDocument/2006/relationships/image" Target="../media/image20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jpeg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5562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Franklin Gothic Medium"/>
              </a:rPr>
              <a:t>If the Book Fits, Read It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ing a Good Fit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1"/>
          <p:cNvSpPr/>
          <p:nvPr/>
        </p:nvSpPr>
        <p:spPr>
          <a:xfrm>
            <a:off x="5257800" y="51814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arbara A. Smith Carolina Forest Elementary  Grad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0" descr="MCj04391420000[1]"/>
          <p:cNvPicPr/>
          <p:nvPr/>
        </p:nvPicPr>
        <p:blipFill>
          <a:blip r:embed="rId1"/>
          <a:stretch/>
        </p:blipFill>
        <p:spPr>
          <a:xfrm>
            <a:off x="380880" y="528480"/>
            <a:ext cx="8229600" cy="6329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44" name="Picture 13" descr="MPj04394490000[1]"/>
          <p:cNvPicPr/>
          <p:nvPr/>
        </p:nvPicPr>
        <p:blipFill>
          <a:blip r:embed="rId2"/>
          <a:stretch/>
        </p:blipFill>
        <p:spPr>
          <a:xfrm>
            <a:off x="6095880" y="1371600"/>
            <a:ext cx="1878120" cy="2819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5" name="TextBox 6"/>
          <p:cNvSpPr/>
          <p:nvPr/>
        </p:nvSpPr>
        <p:spPr>
          <a:xfrm>
            <a:off x="1066680" y="54100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aily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random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20113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nk about the purpose for your book. To write a report 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urtles would you read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6"/>
          <p:cNvSpPr/>
          <p:nvPr/>
        </p:nvSpPr>
        <p:spPr>
          <a:xfrm>
            <a:off x="3581280" y="3962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7"/>
          <p:cNvSpPr/>
          <p:nvPr/>
        </p:nvSpPr>
        <p:spPr>
          <a:xfrm>
            <a:off x="1905120" y="403848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7" descr="turtles.jpg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257800" y="2666880"/>
            <a:ext cx="2438280" cy="33292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8" descr="Franklin Goes to School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143000" y="2666880"/>
            <a:ext cx="2971800" cy="3260880"/>
          </a:xfrm>
          <a:prstGeom prst="rect">
            <a:avLst/>
          </a:prstGeom>
          <a:ln w="0">
            <a:noFill/>
          </a:ln>
        </p:spPr>
      </p:pic>
      <p:pic>
        <p:nvPicPr>
          <p:cNvPr id="581" name="014B9952.WAV" descr=""/>
          <p:cNvPicPr/>
          <p:nvPr/>
        </p:nvPicPr>
        <p:blipFill>
          <a:blip r:embed="rId4"/>
          <a:stretch/>
        </p:blipFill>
        <p:spPr>
          <a:xfrm>
            <a:off x="4419720" y="32004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MPj03142960000[1]">
            <a:hlinkClick r:id="rId1" action="ppaction://hlinksldjump"/>
          </p:cNvPr>
          <p:cNvPicPr/>
          <p:nvPr/>
        </p:nvPicPr>
        <p:blipFill>
          <a:blip r:embed="rId2">
            <a:alphaModFix amt="67000"/>
          </a:blip>
          <a:stretch/>
        </p:blipFill>
        <p:spPr>
          <a:xfrm>
            <a:off x="1066680" y="990720"/>
            <a:ext cx="3657600" cy="1834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83" name="Picture 6" descr="MPPH03447I0000[1]"/>
          <p:cNvPicPr/>
          <p:nvPr/>
        </p:nvPicPr>
        <p:blipFill>
          <a:blip r:embed="rId3"/>
          <a:stretch/>
        </p:blipFill>
        <p:spPr>
          <a:xfrm>
            <a:off x="3505320" y="3276720"/>
            <a:ext cx="3657600" cy="2462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584" name="Text Box 7"/>
          <p:cNvSpPr/>
          <p:nvPr/>
        </p:nvSpPr>
        <p:spPr>
          <a:xfrm>
            <a:off x="5334120" y="762120"/>
            <a:ext cx="3276360" cy="20437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 RIGHT! You want to read about REAL turtl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random/>
    <p:sndAc>
      <p:stSnd>
        <p:snd r:embed="rId4" name="applaus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3716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do you have these sho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your clo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5" descr="MPj04048860000[1]"/>
          <p:cNvPicPr/>
          <p:nvPr/>
        </p:nvPicPr>
        <p:blipFill>
          <a:blip r:embed="rId1"/>
          <a:stretch/>
        </p:blipFill>
        <p:spPr>
          <a:xfrm>
            <a:off x="914400" y="2438280"/>
            <a:ext cx="3352680" cy="2395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87" name="Picture 11" descr="MCj04401990000[1]"/>
          <p:cNvPicPr/>
          <p:nvPr/>
        </p:nvPicPr>
        <p:blipFill>
          <a:blip r:embed="rId2"/>
          <a:stretch/>
        </p:blipFill>
        <p:spPr>
          <a:xfrm>
            <a:off x="5029200" y="2971800"/>
            <a:ext cx="3116160" cy="20844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4778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ght! Because you have a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est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5" descr="MPj04023300000[1]"/>
          <p:cNvPicPr/>
          <p:nvPr/>
        </p:nvPicPr>
        <p:blipFill>
          <a:blip r:embed="rId1"/>
          <a:stretch/>
        </p:blipFill>
        <p:spPr>
          <a:xfrm>
            <a:off x="5867280" y="1981080"/>
            <a:ext cx="208116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0" name="Picture 6" descr="MPj04285240000[1]"/>
          <p:cNvPicPr/>
          <p:nvPr/>
        </p:nvPicPr>
        <p:blipFill>
          <a:blip r:embed="rId2"/>
          <a:stretch/>
        </p:blipFill>
        <p:spPr>
          <a:xfrm>
            <a:off x="533520" y="2438280"/>
            <a:ext cx="3890880" cy="2587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1" name="Text Box 8"/>
          <p:cNvSpPr/>
          <p:nvPr/>
        </p:nvSpPr>
        <p:spPr>
          <a:xfrm>
            <a:off x="1219320" y="5334120"/>
            <a:ext cx="2666880" cy="52056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5791320" y="5334120"/>
            <a:ext cx="2209680" cy="52056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4778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ose books that you ar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est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3200400" cy="464796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yste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l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r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5" descr="MPj04394930000[1]"/>
          <p:cNvPicPr/>
          <p:nvPr/>
        </p:nvPicPr>
        <p:blipFill>
          <a:blip r:embed="rId1"/>
          <a:stretch/>
        </p:blipFill>
        <p:spPr>
          <a:xfrm>
            <a:off x="4343400" y="2895480"/>
            <a:ext cx="3886200" cy="2594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6" name="91A84892.WAV" descr=""/>
          <p:cNvPicPr/>
          <p:nvPr/>
        </p:nvPicPr>
        <p:blipFill>
          <a:blip r:embed="rId2"/>
          <a:stretch/>
        </p:blipFill>
        <p:spPr>
          <a:xfrm>
            <a:off x="22860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7" name="7C7CB283.WAV" descr=""/>
          <p:cNvPicPr/>
          <p:nvPr/>
        </p:nvPicPr>
        <p:blipFill>
          <a:blip r:embed="rId3"/>
          <a:stretch/>
        </p:blipFill>
        <p:spPr>
          <a:xfrm>
            <a:off x="25909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98" name="C1F11934.WAV" descr=""/>
          <p:cNvPicPr/>
          <p:nvPr/>
        </p:nvPicPr>
        <p:blipFill>
          <a:blip r:embed="rId4"/>
          <a:stretch/>
        </p:blipFill>
        <p:spPr>
          <a:xfrm>
            <a:off x="2666880" y="4343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9" name="D52FCDA9.WAV" descr=""/>
          <p:cNvPicPr/>
          <p:nvPr/>
        </p:nvPicPr>
        <p:blipFill>
          <a:blip r:embed="rId5"/>
          <a:stretch/>
        </p:blipFill>
        <p:spPr>
          <a:xfrm>
            <a:off x="2590920" y="5867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00" name="MSj00822000000[1].mid" descr=""/>
          <p:cNvPicPr/>
          <p:nvPr/>
        </p:nvPicPr>
        <p:blipFill>
          <a:blip r:embed="rId6"/>
          <a:stretch/>
        </p:blipFill>
        <p:spPr>
          <a:xfrm>
            <a:off x="31240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1" name="B27ADEA9.WAV" descr=""/>
          <p:cNvPicPr/>
          <p:nvPr/>
        </p:nvPicPr>
        <p:blipFill>
          <a:blip r:embed="rId7"/>
          <a:stretch/>
        </p:blipFill>
        <p:spPr>
          <a:xfrm>
            <a:off x="2666880" y="3657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  <p:sndAc>
      <p:stSnd>
        <p:snd r:embed="rId8" name="camera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8955" fill="hold"/>
                                        <p:tgtEl>
                                          <p:spTgt spid="6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e sure that you understand what you are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153280" cy="391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astic hyoid, combined with the fibroelastic tissue on top of the big cats' undivided vocal folds, acts like a slide trombone, enabling the big cats to ro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4" descr="MCj04344030000[1]"/>
          <p:cNvPicPr/>
          <p:nvPr/>
        </p:nvPicPr>
        <p:blipFill>
          <a:blip r:embed="rId1"/>
          <a:stretch/>
        </p:blipFill>
        <p:spPr>
          <a:xfrm>
            <a:off x="3809880" y="4267080"/>
            <a:ext cx="1198800" cy="1679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that you know mos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the wo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gers are the largest wild cat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can weigh up to 720 pou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4" descr="MPj04364520000[1]"/>
          <p:cNvPicPr/>
          <p:nvPr/>
        </p:nvPicPr>
        <p:blipFill>
          <a:blip r:embed="rId1"/>
          <a:stretch/>
        </p:blipFill>
        <p:spPr>
          <a:xfrm>
            <a:off x="3048120" y="3124080"/>
            <a:ext cx="2971800" cy="2260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 PICK  a Good-Fit 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4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oose a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pose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o I want to read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est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it interest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prehend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I understand what I am reading?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know most of the words</a:t>
            </a: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ppy Read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15" descr="MPj04276860000[1]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4638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edge/>
    <p:sndAc>
      <p:stSnd>
        <p:snd r:embed="rId2" name="chimes.wav"/>
      </p:stSnd>
    </p:sndAc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:\Users\Barbara\AppData\Local\Microsoft\Windows\Temporary Internet Files\Content.IE5\E33YICPL\MCj04343890000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666880" y="838080"/>
            <a:ext cx="3353040" cy="5284800"/>
          </a:xfrm>
          <a:prstGeom prst="rect">
            <a:avLst/>
          </a:prstGeom>
          <a:ln w="0">
            <a:noFill/>
          </a:ln>
        </p:spPr>
      </p:pic>
      <p:sp>
        <p:nvSpPr>
          <p:cNvPr id="613" name="TextBox 4"/>
          <p:cNvSpPr/>
          <p:nvPr/>
        </p:nvSpPr>
        <p:spPr>
          <a:xfrm>
            <a:off x="3276720" y="12193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nk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uld you ever wear a pair of shoes that were too large 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MPj04317940000[1]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2514600" y="2286000"/>
            <a:ext cx="3886200" cy="3886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5562720" cy="10969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 too sma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MPj04003050000[1]"/>
          <p:cNvPicPr/>
          <p:nvPr/>
        </p:nvPicPr>
        <p:blipFill>
          <a:blip r:embed="rId1"/>
          <a:stretch/>
        </p:blipFill>
        <p:spPr>
          <a:xfrm>
            <a:off x="3200400" y="2286000"/>
            <a:ext cx="2495520" cy="3121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 spd="slow"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324480" cy="16002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uld you wea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these shoes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MPj04048860000[1]"/>
          <p:cNvPicPr/>
          <p:nvPr/>
        </p:nvPicPr>
        <p:blipFill>
          <a:blip r:embed="rId1"/>
          <a:stretch/>
        </p:blipFill>
        <p:spPr>
          <a:xfrm>
            <a:off x="2057400" y="2481120"/>
            <a:ext cx="4876920" cy="3484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2" name="MSj00822000000[1].mid" descr=""/>
          <p:cNvPicPr/>
          <p:nvPr/>
        </p:nvPicPr>
        <p:blipFill>
          <a:blip r:embed="rId2"/>
          <a:stretch/>
        </p:blipFill>
        <p:spPr>
          <a:xfrm>
            <a:off x="746748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55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5486400" cy="9907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play footbal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286000" y="1523880"/>
          <a:ext cx="4724280" cy="4602240"/>
        </p:xfrm>
        <a:graphic>
          <a:graphicData uri="http://schemas.openxmlformats.org/drawingml/2006/table">
            <a:tbl>
              <a:tblPr/>
              <a:tblGrid>
                <a:gridCol w="4724280"/>
              </a:tblGrid>
              <a:tr h="460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5" name="Picture 16" descr="MPj04305860000[1]"/>
          <p:cNvPicPr/>
          <p:nvPr/>
        </p:nvPicPr>
        <p:blipFill>
          <a:blip r:embed="rId1"/>
          <a:stretch/>
        </p:blipFill>
        <p:spPr>
          <a:xfrm>
            <a:off x="2514600" y="1676520"/>
            <a:ext cx="4267080" cy="4267080"/>
          </a:xfrm>
          <a:prstGeom prst="rect">
            <a:avLst/>
          </a:prstGeom>
          <a:ln w="0">
            <a:noFill/>
          </a:ln>
        </p:spPr>
      </p:pic>
      <p:pic>
        <p:nvPicPr>
          <p:cNvPr id="556" name="73E4A305.WAV" descr=""/>
          <p:cNvPicPr/>
          <p:nvPr/>
        </p:nvPicPr>
        <p:blipFill>
          <a:blip r:embed="rId2"/>
          <a:stretch/>
        </p:blipFill>
        <p:spPr>
          <a:xfrm>
            <a:off x="74674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76160" y="274320"/>
            <a:ext cx="5638680" cy="15541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ould you wear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these sho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4" descr="MPj04049220000[1]"/>
          <p:cNvPicPr/>
          <p:nvPr/>
        </p:nvPicPr>
        <p:blipFill>
          <a:blip r:embed="rId1"/>
          <a:stretch/>
        </p:blipFill>
        <p:spPr>
          <a:xfrm>
            <a:off x="2209680" y="2209680"/>
            <a:ext cx="4800600" cy="3429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59" name="MSj03885380000[1].wav" descr=""/>
          <p:cNvPicPr/>
          <p:nvPr/>
        </p:nvPicPr>
        <p:blipFill>
          <a:blip r:embed="rId2"/>
          <a:stretch/>
        </p:blipFill>
        <p:spPr>
          <a:xfrm>
            <a:off x="754380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975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599840" y="274680"/>
            <a:ext cx="6172200" cy="132552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o walk the beach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MPj04019860000[1]"/>
          <p:cNvPicPr/>
          <p:nvPr/>
        </p:nvPicPr>
        <p:blipFill>
          <a:blip r:embed="rId1"/>
          <a:stretch/>
        </p:blipFill>
        <p:spPr>
          <a:xfrm>
            <a:off x="2057400" y="2057400"/>
            <a:ext cx="5257800" cy="3503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562" name="77A86E32.WAV" descr=""/>
          <p:cNvPicPr/>
          <p:nvPr/>
        </p:nvPicPr>
        <p:blipFill>
          <a:blip r:embed="rId2"/>
          <a:stretch/>
        </p:blipFill>
        <p:spPr>
          <a:xfrm>
            <a:off x="80010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6002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? Then why read a book that doesn</a:t>
            </a:r>
            <a:r>
              <a:rPr b="1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 fi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7" descr="MPj04395080000[1]"/>
          <p:cNvPicPr/>
          <p:nvPr/>
        </p:nvPicPr>
        <p:blipFill>
          <a:blip r:embed="rId1"/>
          <a:stretch/>
        </p:blipFill>
        <p:spPr>
          <a:xfrm>
            <a:off x="3429000" y="2514600"/>
            <a:ext cx="2892600" cy="3733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1371600"/>
          </a:xfrm>
          <a:prstGeom prst="rect">
            <a:avLst/>
          </a:prstGeom>
          <a:solidFill>
            <a:srgbClr val="bbe0e3">
              <a:alpha val="77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ry shoe has a purpose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you match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496040"/>
          </a:xfrm>
          <a:prstGeom prst="rect">
            <a:avLst/>
          </a:prstGeom>
          <a:solidFill>
            <a:srgbClr val="bbe0e3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525920"/>
          </a:xfrm>
          <a:prstGeom prst="rect">
            <a:avLst/>
          </a:prstGeom>
          <a:solidFill>
            <a:srgbClr val="bbe0e3">
              <a:alpha val="77000"/>
            </a:srgbClr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6" descr="MCj04400440000[1]"/>
          <p:cNvPicPr/>
          <p:nvPr/>
        </p:nvPicPr>
        <p:blipFill>
          <a:blip r:embed="rId1"/>
          <a:stretch/>
        </p:blipFill>
        <p:spPr>
          <a:xfrm>
            <a:off x="762120" y="2590920"/>
            <a:ext cx="1218960" cy="10476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9" descr="MPj04006520000[1]"/>
          <p:cNvPicPr/>
          <p:nvPr/>
        </p:nvPicPr>
        <p:blipFill>
          <a:blip r:embed="rId2"/>
          <a:stretch/>
        </p:blipFill>
        <p:spPr>
          <a:xfrm>
            <a:off x="762120" y="4191120"/>
            <a:ext cx="1339560" cy="16761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MCj04370410000[1]"/>
          <p:cNvPicPr/>
          <p:nvPr/>
        </p:nvPicPr>
        <p:blipFill>
          <a:blip r:embed="rId3"/>
          <a:stretch/>
        </p:blipFill>
        <p:spPr>
          <a:xfrm>
            <a:off x="7086600" y="266688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3" descr="MCj02352030000[1]"/>
          <p:cNvPicPr/>
          <p:nvPr/>
        </p:nvPicPr>
        <p:blipFill>
          <a:blip r:embed="rId4"/>
          <a:stretch/>
        </p:blipFill>
        <p:spPr>
          <a:xfrm>
            <a:off x="4800600" y="2666880"/>
            <a:ext cx="1827360" cy="12686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4" descr="j0285698"/>
          <p:cNvPicPr/>
          <p:nvPr/>
        </p:nvPicPr>
        <p:blipFill>
          <a:blip r:embed="rId5"/>
          <a:stretch/>
        </p:blipFill>
        <p:spPr>
          <a:xfrm>
            <a:off x="7391520" y="4419720"/>
            <a:ext cx="1207800" cy="129060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MCj02857280000[1]"/>
          <p:cNvPicPr/>
          <p:nvPr/>
        </p:nvPicPr>
        <p:blipFill>
          <a:blip r:embed="rId6"/>
          <a:stretch/>
        </p:blipFill>
        <p:spPr>
          <a:xfrm>
            <a:off x="2666880" y="4724280"/>
            <a:ext cx="1594080" cy="12906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0" descr="MPj04388480000[1]"/>
          <p:cNvPicPr/>
          <p:nvPr/>
        </p:nvPicPr>
        <p:blipFill>
          <a:blip r:embed="rId7"/>
          <a:stretch/>
        </p:blipFill>
        <p:spPr>
          <a:xfrm>
            <a:off x="5029200" y="4648320"/>
            <a:ext cx="2057400" cy="1226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6" descr="MCj04125520000[1]"/>
          <p:cNvPicPr/>
          <p:nvPr/>
        </p:nvPicPr>
        <p:blipFill>
          <a:blip r:embed="rId8"/>
          <a:stretch/>
        </p:blipFill>
        <p:spPr>
          <a:xfrm>
            <a:off x="2666880" y="2590920"/>
            <a:ext cx="1401840" cy="1492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21:28:54Z</dcterms:created>
  <dc:creator>Barbara</dc:creator>
  <dc:description/>
  <dc:language>en-US</dc:language>
  <cp:lastModifiedBy>Glasshouse Country Christian College</cp:lastModifiedBy>
  <dcterms:modified xsi:type="dcterms:W3CDTF">2014-03-12T03:04:27Z</dcterms:modified>
  <cp:revision>119</cp:revision>
  <dc:subject/>
  <dc:title>If the Book Fits,  Wear It!</dc:title>
</cp:coreProperties>
</file>